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3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4.wmf" ContentType="image/x-wmf"/>
  <Override PartName="/ppt/media/image8.wmf" ContentType="image/x-wmf"/>
  <Override PartName="/ppt/media/image37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2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9.wmf" ContentType="image/x-wmf"/>
  <Override PartName="/ppt/media/image43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23.jpeg" ContentType="image/jpeg"/>
  <Override PartName="/ppt/media/image12.png" ContentType="image/png"/>
  <Override PartName="/ppt/media/image46.png" ContentType="image/png"/>
  <Override PartName="/ppt/media/image6.wmf" ContentType="image/x-wmf"/>
  <Override PartName="/ppt/media/image42.jpeg" ContentType="image/jpeg"/>
  <Override PartName="/ppt/media/image19.jpeg" ContentType="image/jpeg"/>
  <Override PartName="/ppt/media/image11.wmf" ContentType="image/x-wmf"/>
  <Override PartName="/ppt/media/image17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40.jpeg" ContentType="image/jpeg"/>
  <Override PartName="/ppt/media/image13.jpeg" ContentType="image/jpeg"/>
  <Override PartName="/ppt/media/image15.jpeg" ContentType="image/jpeg"/>
  <Override PartName="/ppt/media/image36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350CA5-7FED-40E4-A96D-C16FFB272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it in a private room or at the bar, guests will enjoy a unique karaok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064-3C42-4BE5-B8FE-BDE7A8AA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B9C-854C-4BF2-A014-315075D1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108-E962-41D6-8FE4-C9BE16C7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793-5D1F-4078-9A90-C3A7AA8D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D62-EEED-4B7E-BB10-8C655C9A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AD0-030D-4A12-8F24-F368FBEB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705-8C7F-4749-9E5C-43AEDB49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B90-1909-4BCD-9037-914FFFD0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7A6-FCD9-4EB8-935A-AC3A0AE0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B12-7993-4D66-A217-7C23DEA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FDF-F6E7-42EA-8AD2-3157615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049-CB38-4EDD-AE27-670AC4B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E65A-6043-4596-A13E-5B5FAF5AF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57440" y="1218960"/>
            <a:ext cx="298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971800" cy="35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1447920"/>
            <a:ext cx="168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433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4120" y="1295280"/>
            <a:ext cx="3809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Franklin Gothic Book"/>
              </a:rPr>
              <a:t>Strong Ear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Franklin Gothic Book"/>
              </a:rPr>
              <a:t>                </a:t>
            </a:r>
            <a:r>
              <a:rPr b="1" lang="en-US" sz="2600" spc="-1" strike="noStrike">
                <a:solidFill>
                  <a:srgbClr val="808080"/>
                </a:solidFill>
                <a:latin typeface="Franklin Gothic Book"/>
              </a:rPr>
              <a:t>in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Franklin Gothic Book"/>
              </a:rPr>
              <a:t>New Growth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57150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c"/>
                </a:solidFill>
                <a:latin typeface="Franklin Gothic Book"/>
              </a:rPr>
              <a:t>F J Benjamin Holdings Ltd</a:t>
            </a:r>
            <a:r>
              <a:rPr b="1" lang="en-US" sz="2000" spc="-1" strike="noStrike">
                <a:solidFill>
                  <a:srgbClr val="00007a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Financi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28 August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10080" y="3212640"/>
            <a:ext cx="37339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81782"/>
                </a:solidFill>
                <a:latin typeface="Franklin Gothic Book"/>
              </a:rPr>
              <a:t>Organic regional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Franklin Gothic Book"/>
              </a:rPr>
              <a:t>Gu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Franklin Gothic Book"/>
              </a:rPr>
              <a:t>Guess? Access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Franklin Gothic Book"/>
              </a:rPr>
              <a:t>Baby Gu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Franklin Gothic Book"/>
              </a:rPr>
              <a:t>Guess? by Marciano (new conce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Franklin Gothic Book"/>
              </a:rPr>
              <a:t>59 stores in F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Franklin Gothic Book"/>
              </a:rPr>
              <a:t>Singapore, Malaysia, Indonesia</a:t>
            </a:r>
            <a:r>
              <a:rPr b="0" lang="en-US" sz="16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86400" y="3657600"/>
            <a:ext cx="36576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2666880" y="3276720"/>
            <a:ext cx="1800360" cy="366480"/>
          </a:xfrm>
          <a:prstGeom prst="rect">
            <a:avLst/>
          </a:prstGeom>
          <a:ln w="0">
            <a:noFill/>
          </a:ln>
        </p:spPr>
      </p:pic>
      <p:pic>
        <p:nvPicPr>
          <p:cNvPr id="128" name="2" descr=""/>
          <p:cNvPicPr/>
          <p:nvPr/>
        </p:nvPicPr>
        <p:blipFill>
          <a:blip r:embed="rId9"/>
          <a:stretch/>
        </p:blipFill>
        <p:spPr>
          <a:xfrm>
            <a:off x="3562200" y="0"/>
            <a:ext cx="5581800" cy="3033720"/>
          </a:xfrm>
          <a:prstGeom prst="rect">
            <a:avLst/>
          </a:prstGeom>
          <a:ln w="0">
            <a:noFill/>
          </a:ln>
        </p:spPr>
      </p:pic>
      <p:pic>
        <p:nvPicPr>
          <p:cNvPr id="129" name="1" descr=""/>
          <p:cNvPicPr/>
          <p:nvPr/>
        </p:nvPicPr>
        <p:blipFill>
          <a:blip r:embed="rId10"/>
          <a:stretch/>
        </p:blipFill>
        <p:spPr>
          <a:xfrm>
            <a:off x="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3" descr=""/>
          <p:cNvPicPr/>
          <p:nvPr/>
        </p:nvPicPr>
        <p:blipFill>
          <a:blip r:embed="rId11"/>
          <a:stretch/>
        </p:blipFill>
        <p:spPr>
          <a:xfrm>
            <a:off x="0" y="3886200"/>
            <a:ext cx="533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4492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14800" y="4437000"/>
            <a:ext cx="48592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782"/>
                </a:solidFill>
                <a:latin typeface="Franklin Gothic Book"/>
              </a:rPr>
              <a:t>Organic regi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La Se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20 stores in 2006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Singapore, Malaysia, Indonesia, Thailand,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43400" y="4952880"/>
            <a:ext cx="48006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7"/>
          <a:stretch/>
        </p:blipFill>
        <p:spPr>
          <a:xfrm>
            <a:off x="0" y="2895480"/>
            <a:ext cx="3887640" cy="396252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8"/>
          <a:stretch/>
        </p:blipFill>
        <p:spPr>
          <a:xfrm>
            <a:off x="152280" y="685800"/>
            <a:ext cx="2895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477120" y="1371600"/>
            <a:ext cx="25146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0"/>
            <a:ext cx="270036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782"/>
                </a:solidFill>
                <a:latin typeface="Arial"/>
              </a:rPr>
              <a:t>Orga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782"/>
                </a:solidFill>
                <a:latin typeface="Arial"/>
              </a:rPr>
              <a:t>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782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House label launched in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Designed and styled in-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Franklin Gothic Book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24 stores in Singapore, Kuala Lumpur, Jakarta, Bali,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Aim - Sydney, Hong Kong, New York City in 2008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7" descr=""/>
          <p:cNvPicPr/>
          <p:nvPr/>
        </p:nvPicPr>
        <p:blipFill>
          <a:blip r:embed="rId6"/>
          <a:stretch/>
        </p:blipFill>
        <p:spPr>
          <a:xfrm>
            <a:off x="0" y="0"/>
            <a:ext cx="6248520" cy="3813120"/>
          </a:xfrm>
          <a:prstGeom prst="rect">
            <a:avLst/>
          </a:prstGeom>
          <a:ln w="0">
            <a:noFill/>
          </a:ln>
        </p:spPr>
      </p:pic>
      <p:pic>
        <p:nvPicPr>
          <p:cNvPr id="141" name="a" descr=""/>
          <p:cNvPicPr/>
          <p:nvPr/>
        </p:nvPicPr>
        <p:blipFill>
          <a:blip r:embed="rId7"/>
          <a:stretch/>
        </p:blipFill>
        <p:spPr>
          <a:xfrm>
            <a:off x="2190600" y="4059360"/>
            <a:ext cx="4057920" cy="2798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286000" y="3809880"/>
            <a:ext cx="3962520" cy="27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0" y="3809880"/>
            <a:ext cx="3940200" cy="270000"/>
          </a:xfrm>
          <a:prstGeom prst="rect">
            <a:avLst/>
          </a:prstGeom>
          <a:ln w="0">
            <a:noFill/>
          </a:ln>
        </p:spPr>
      </p:pic>
      <p:pic>
        <p:nvPicPr>
          <p:cNvPr id="144" name="b" descr=""/>
          <p:cNvPicPr/>
          <p:nvPr/>
        </p:nvPicPr>
        <p:blipFill>
          <a:blip r:embed="rId10"/>
          <a:stretch/>
        </p:blipFill>
        <p:spPr>
          <a:xfrm>
            <a:off x="0" y="6134040"/>
            <a:ext cx="2438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659640" y="60480"/>
            <a:ext cx="2484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782"/>
                </a:solidFill>
                <a:latin typeface="Arial"/>
              </a:rPr>
              <a:t>Orga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782"/>
                </a:solidFill>
                <a:latin typeface="Arial"/>
              </a:rPr>
              <a:t>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782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SzPct val="5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International Franchise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SzPct val="5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First Step – Dubai, Bahrain, Qatar and Kuwait, 9 Raoul Men stores b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SzPct val="5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7 stores to open in Malaysia, Indonesia, Bang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629400" y="1371600"/>
            <a:ext cx="25146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9" descr=""/>
          <p:cNvPicPr/>
          <p:nvPr/>
        </p:nvPicPr>
        <p:blipFill>
          <a:blip r:embed="rId2"/>
          <a:stretch/>
        </p:blipFill>
        <p:spPr>
          <a:xfrm>
            <a:off x="0" y="3292560"/>
            <a:ext cx="6583320" cy="3565440"/>
          </a:xfrm>
          <a:prstGeom prst="rect">
            <a:avLst/>
          </a:prstGeom>
          <a:ln w="0">
            <a:noFill/>
          </a:ln>
        </p:spPr>
      </p:pic>
      <p:pic>
        <p:nvPicPr>
          <p:cNvPr id="149" name="8" descr=""/>
          <p:cNvPicPr/>
          <p:nvPr/>
        </p:nvPicPr>
        <p:blipFill>
          <a:blip r:embed="rId3"/>
          <a:stretch/>
        </p:blipFill>
        <p:spPr>
          <a:xfrm>
            <a:off x="0" y="0"/>
            <a:ext cx="6583320" cy="3360600"/>
          </a:xfrm>
          <a:prstGeom prst="rect">
            <a:avLst/>
          </a:prstGeom>
          <a:ln w="0">
            <a:noFill/>
          </a:ln>
        </p:spPr>
      </p:pic>
      <p:pic>
        <p:nvPicPr>
          <p:cNvPr id="150" name="b" descr=""/>
          <p:cNvPicPr/>
          <p:nvPr/>
        </p:nvPicPr>
        <p:blipFill>
          <a:blip r:embed="rId4"/>
          <a:stretch/>
        </p:blipFill>
        <p:spPr>
          <a:xfrm>
            <a:off x="6629400" y="1523880"/>
            <a:ext cx="24382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65680" y="-4932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782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81782"/>
                </a:solidFill>
                <a:latin typeface="Franklin Gothic Book"/>
              </a:rPr>
              <a:t>Organic regional growth - time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21360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China – Exciting 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19520" y="457200"/>
            <a:ext cx="373356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6553080" cy="3655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267080" y="3581280"/>
            <a:ext cx="4876920" cy="2667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3568680"/>
            <a:ext cx="5362560" cy="3289320"/>
          </a:xfrm>
          <a:prstGeom prst="rect">
            <a:avLst/>
          </a:prstGeom>
          <a:ln w="0">
            <a:noFill/>
          </a:ln>
        </p:spPr>
      </p:pic>
      <p:pic>
        <p:nvPicPr>
          <p:cNvPr id="158" name="c" descr=""/>
          <p:cNvPicPr/>
          <p:nvPr/>
        </p:nvPicPr>
        <p:blipFill>
          <a:blip r:embed="rId5"/>
          <a:stretch/>
        </p:blipFill>
        <p:spPr>
          <a:xfrm>
            <a:off x="6553080" y="533520"/>
            <a:ext cx="2295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025640" y="905040"/>
            <a:ext cx="7408440" cy="1066320"/>
            <a:chOff x="1025640" y="905040"/>
            <a:chExt cx="7408440" cy="1066320"/>
          </a:xfrm>
        </p:grpSpPr>
        <p:sp>
          <p:nvSpPr>
            <p:cNvPr id="160" name=""/>
            <p:cNvSpPr/>
            <p:nvPr/>
          </p:nvSpPr>
          <p:spPr>
            <a:xfrm>
              <a:off x="1025640" y="905040"/>
              <a:ext cx="6068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3520" y="1361880"/>
              <a:ext cx="394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3635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782"/>
                </a:solidFill>
                <a:latin typeface="Franklin Gothic Book"/>
              </a:rPr>
              <a:t>New Br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782"/>
                </a:solidFill>
                <a:latin typeface="Franklin Gothic Book"/>
              </a:rPr>
              <a:t>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14 Gap stores by 2006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Singapore, Malaysia, &amp; recently, Indone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F J Benjamin - Gap Inc’s first ever franchise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First Gap and Banana Republic stores in Asia (outside Jap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518148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43000"/>
            <a:ext cx="396252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d" descr=""/>
          <p:cNvPicPr/>
          <p:nvPr/>
        </p:nvPicPr>
        <p:blipFill>
          <a:blip r:embed="rId6"/>
          <a:stretch/>
        </p:blipFill>
        <p:spPr>
          <a:xfrm>
            <a:off x="3962520" y="0"/>
            <a:ext cx="5181480" cy="5029200"/>
          </a:xfrm>
          <a:prstGeom prst="rect">
            <a:avLst/>
          </a:prstGeom>
          <a:ln w="0">
            <a:noFill/>
          </a:ln>
        </p:spPr>
      </p:pic>
      <p:pic>
        <p:nvPicPr>
          <p:cNvPr id="168" name="e" descr=""/>
          <p:cNvPicPr/>
          <p:nvPr/>
        </p:nvPicPr>
        <p:blipFill>
          <a:blip r:embed="rId7"/>
          <a:stretch/>
        </p:blipFill>
        <p:spPr>
          <a:xfrm>
            <a:off x="0" y="3657600"/>
            <a:ext cx="56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782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81782"/>
                </a:solidFill>
                <a:latin typeface="Franklin Gothic Book"/>
              </a:rPr>
              <a:t>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3867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Franklin Gothic Book"/>
              </a:rPr>
              <a:t>Thai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Franklin Gothic Book"/>
              </a:rPr>
              <a:t>Thaico established in early 200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Franklin Gothic Book"/>
              </a:rPr>
              <a:t>RAOUL Men, RAOUL Ladies, La Senza opened in August 2006 at Centr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724280" y="533520"/>
            <a:ext cx="441972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410080" y="533520"/>
            <a:ext cx="3284640" cy="3809880"/>
          </a:xfrm>
          <a:prstGeom prst="rect">
            <a:avLst/>
          </a:prstGeom>
          <a:ln w="0">
            <a:noFill/>
          </a:ln>
        </p:spPr>
      </p:pic>
      <p:pic>
        <p:nvPicPr>
          <p:cNvPr id="174" name="i" descr=""/>
          <p:cNvPicPr/>
          <p:nvPr/>
        </p:nvPicPr>
        <p:blipFill>
          <a:blip r:embed="rId5"/>
          <a:stretch/>
        </p:blipFill>
        <p:spPr>
          <a:xfrm>
            <a:off x="0" y="3124080"/>
            <a:ext cx="4876920" cy="3490920"/>
          </a:xfrm>
          <a:prstGeom prst="rect">
            <a:avLst/>
          </a:prstGeom>
          <a:ln w="0">
            <a:noFill/>
          </a:ln>
        </p:spPr>
      </p:pic>
      <p:pic>
        <p:nvPicPr>
          <p:cNvPr id="175" name="h" descr=""/>
          <p:cNvPicPr/>
          <p:nvPr/>
        </p:nvPicPr>
        <p:blipFill>
          <a:blip r:embed="rId6"/>
          <a:stretch/>
        </p:blipFill>
        <p:spPr>
          <a:xfrm>
            <a:off x="4876920" y="3657600"/>
            <a:ext cx="42670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025640" y="905040"/>
            <a:ext cx="7408440" cy="1066320"/>
            <a:chOff x="1025640" y="905040"/>
            <a:chExt cx="7408440" cy="1066320"/>
          </a:xfrm>
        </p:grpSpPr>
        <p:sp>
          <p:nvSpPr>
            <p:cNvPr id="177" name=""/>
            <p:cNvSpPr/>
            <p:nvPr/>
          </p:nvSpPr>
          <p:spPr>
            <a:xfrm>
              <a:off x="1025640" y="905040"/>
              <a:ext cx="6068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3520" y="1361880"/>
              <a:ext cx="394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782"/>
                </a:solidFill>
                <a:latin typeface="Franklin Gothic Book"/>
              </a:rPr>
              <a:t>Potential Asset Dives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5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1143000"/>
            <a:ext cx="57150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6553080" cy="434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2548080" cy="3352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467480" y="59436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GX Announ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9 Sept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443640" y="1143000"/>
            <a:ext cx="270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9 night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3 restau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End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ranklin Gothic Book"/>
              </a:rPr>
              <a:t>Joint Venture with Dennis Foo and EK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2514600" y="0"/>
            <a:ext cx="6629400" cy="1409760"/>
          </a:xfrm>
          <a:prstGeom prst="rect">
            <a:avLst/>
          </a:prstGeom>
          <a:ln w="0">
            <a:noFill/>
          </a:ln>
        </p:spPr>
      </p:pic>
      <p:pic>
        <p:nvPicPr>
          <p:cNvPr id="188" name="f" descr=""/>
          <p:cNvPicPr/>
          <p:nvPr/>
        </p:nvPicPr>
        <p:blipFill>
          <a:blip r:embed="rId7"/>
          <a:stretch/>
        </p:blipFill>
        <p:spPr>
          <a:xfrm>
            <a:off x="0" y="1219320"/>
            <a:ext cx="64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35604" r="0" b="35604"/>
          <a:stretch/>
        </p:blipFill>
        <p:spPr>
          <a:xfrm>
            <a:off x="2514600" y="304920"/>
            <a:ext cx="4210200" cy="1212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251160" cy="4876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33920" y="5257800"/>
            <a:ext cx="50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ulim"/>
              </a:rPr>
              <a:t>A trendy and stylish live entertainment venue feat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ulim"/>
              </a:rPr>
              <a:t>Mandarin Pop/R&amp;B music for those aged 25 an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" y="6518160"/>
            <a:ext cx="126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au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809880" y="1523880"/>
            <a:ext cx="2452680" cy="3581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400800" y="1523880"/>
            <a:ext cx="2389320" cy="3581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7010280" y="6404040"/>
            <a:ext cx="21337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Financial Highlights for Full Ye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505320"/>
            <a:ext cx="8455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anklin Gothic Book"/>
              </a:rPr>
              <a:t>Net profit                               10,171                                       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828800"/>
            <a:ext cx="8305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81080"/>
            <a:ext cx="845820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anklin Gothic Book"/>
              </a:rPr>
              <a:t>Turnover                              187,235        145,658                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447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anklin Gothic Book"/>
              </a:rPr>
              <a:t>(S$’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51440" y="1447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anklin Gothic Book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04280" y="1447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anklin Gothic Book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10760" y="106668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anklin Gothic Boo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anklin Gothic Book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8880" y="35812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anklin Gothic Book"/>
              </a:rPr>
              <a:t>4,2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3581280"/>
            <a:ext cx="53352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52800" y="6340320"/>
            <a:ext cx="430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Net profit after tax includes exceptional 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Operating cost includes depre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2057400"/>
            <a:ext cx="53352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743200"/>
            <a:ext cx="8455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anklin Gothic Book"/>
              </a:rPr>
              <a:t>Operating Profit                    13,102           3,594                  2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2819520"/>
            <a:ext cx="53352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267080"/>
            <a:ext cx="845532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anklin Gothic Book"/>
              </a:rPr>
              <a:t>Operating Cost                      68,913          55,133              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4343400"/>
            <a:ext cx="53352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838080"/>
            <a:ext cx="84582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7760" y="541008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ulim"/>
              </a:rPr>
              <a:t>Be it in a private room or at the b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ulim"/>
              </a:rPr>
              <a:t>guests will enjoy a unique karaok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3429000" cy="3228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248520" y="685800"/>
            <a:ext cx="243828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895480" y="1066680"/>
            <a:ext cx="2793960" cy="4191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80" y="6518160"/>
            <a:ext cx="126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au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7010280" y="6404040"/>
            <a:ext cx="21337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782"/>
                </a:solidFill>
                <a:latin typeface="Franklin Gothic Book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www.</a:t>
            </a:r>
            <a:r>
              <a:rPr b="0" lang="en-US" sz="3200" spc="-1" strike="noStrike">
                <a:solidFill>
                  <a:srgbClr val="090c81"/>
                </a:solidFill>
                <a:latin typeface="Franklin Gothic Book"/>
              </a:rPr>
              <a:t>fjbenjamin</a:t>
            </a:r>
            <a:r>
              <a:rPr b="0" lang="en-US" sz="3200" spc="-1" strike="noStrike">
                <a:solidFill>
                  <a:srgbClr val="808080"/>
                </a:solidFill>
                <a:latin typeface="Franklin Gothic Book"/>
              </a:rPr>
              <a:t>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0"/>
            <a:ext cx="8686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Double Digit Growth in Turnover sinc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268920" y="655308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Franklin Gothic Book"/>
              </a:rPr>
              <a:t>Turnover includes exceptional 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057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874800"/>
            <a:ext cx="65484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Net Profit sinc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135360" y="645012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Net profit includes exceptional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1143000"/>
          <a:ext cx="5791320" cy="517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143000"/>
                    <a:ext cx="57913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V="1">
            <a:off x="2895480" y="1676160"/>
            <a:ext cx="3353040" cy="2971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5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anklin Gothic Book"/>
              </a:rPr>
              <a:t>Low Gearing. Record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762120"/>
            <a:ext cx="84582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3352680"/>
          <a:ext cx="4648320" cy="3505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352680"/>
                    <a:ext cx="46483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0" y="914400"/>
          <a:ext cx="5460840" cy="2595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914400"/>
                    <a:ext cx="546084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867200" y="1066680"/>
          <a:ext cx="4276800" cy="5181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7200" y="1066680"/>
                    <a:ext cx="42768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2006 Turnover by Core Segment</a:t>
            </a:r>
            <a:r>
              <a:rPr b="0" lang="en-US" sz="2800" spc="-1" strike="noStrike">
                <a:solidFill>
                  <a:srgbClr val="333399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89880" y="5803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8001000" cy="449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600200"/>
                    <a:ext cx="8001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2006 Turnover by Geographical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0520" y="2139840"/>
          <a:ext cx="7959600" cy="36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0520" y="2139840"/>
                    <a:ext cx="79596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09480" y="5867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2085840"/>
          <a:ext cx="8229600" cy="3476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085840"/>
                    <a:ext cx="82296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2006 CAPEX up 24% ov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371600"/>
          <a:ext cx="6172200" cy="54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371600"/>
                    <a:ext cx="6172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 flipV="1">
            <a:off x="5257800" y="19051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20574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962520" y="266688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71800" y="31237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2590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0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Growth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Franklin Gothic Book"/>
              </a:rPr>
              <a:t>Organic Region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Gues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La S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Ra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Girard-Perregaux, JeanRichard, Bell &amp; Ross, Guess?, Nike, Nautica, Marc 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Franklin Gothic 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Franklin Gothic Book"/>
              </a:rPr>
              <a:t>New B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Franklin Gothic 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Franklin Gothic Book"/>
              </a:rPr>
              <a:t>New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Franklin Gothic Book"/>
              </a:rPr>
              <a:t>Potential Asset Di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Franklin Gothic Book"/>
              </a:rPr>
              <a:t>6B Orange Grove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Franklin Gothic Book"/>
              </a:rPr>
              <a:t>St James Power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89880" y="6566040"/>
            <a:ext cx="2454120" cy="291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8:22:45Z</dcterms:created>
  <dc:creator>Eugene</dc:creator>
  <dc:description/>
  <dc:language>en-US</dc:language>
  <cp:lastModifiedBy>thalia</cp:lastModifiedBy>
  <dcterms:modified xsi:type="dcterms:W3CDTF">2006-10-04T12:49:22Z</dcterms:modified>
  <cp:revision>75</cp:revision>
  <dc:subject/>
  <dc:title>   </dc:title>
</cp:coreProperties>
</file>