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12.wmf" ContentType="image/x-wmf"/>
  <Override PartName="/ppt/media/image8.wmf" ContentType="image/x-wmf"/>
  <Override PartName="/ppt/media/image9.png" ContentType="image/png"/>
  <Override PartName="/ppt/media/image1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611C-82E7-42AB-AD6A-047C5A32C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7222-2523-4E67-A963-1BCE0981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6327-0115-4036-B570-BFB1DB3A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B572-0367-4CD6-99B7-072BE3893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769E-4F4F-4DCB-80C2-C8538DCD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489B-5533-40A0-8ED4-678248B1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ADAE-1C44-40C0-BCDA-EE47B775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A37F-7625-4A35-B829-CAA90CE0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FE71-1A73-4634-BF20-624C0343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F4A8-BDAD-4018-B2FA-1429C8DF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CA69-DBCF-49CE-8563-7803F494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25FF-B065-49D1-8BB8-3AE6B025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DDF4-FE66-4128-8C43-093F2F444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.jpe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2.jpeg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59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70560" y="2491920"/>
            <a:ext cx="3673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Book"/>
              </a:rPr>
              <a:t>The Brand </a:t>
            </a:r>
            <a:br>
              <a:rPr sz="3200"/>
            </a:br>
            <a:r>
              <a:rPr b="0" lang="en-US" sz="3200" spc="-1" strike="noStrike">
                <a:solidFill>
                  <a:srgbClr val="808080"/>
                </a:solidFill>
                <a:latin typeface="Franklin Gothic Book"/>
              </a:rPr>
              <a:t>Behind The Br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055600" y="5013000"/>
            <a:ext cx="70880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ranklin Gothic Book"/>
              </a:rPr>
              <a:t>Douglas Benja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CEO, F J Benjamin (Singap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Creative Director, RAOUL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76720" y="1052640"/>
            <a:ext cx="3888000" cy="39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Franklin Gothic Book"/>
              </a:rPr>
              <a:t>Part II – Building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000" y="620280"/>
            <a:ext cx="8147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8080"/>
              </a:buClr>
              <a:buSzPct val="5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Franklin Gothic Book"/>
              </a:rPr>
              <a:t>Network &amp;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808080"/>
              </a:buClr>
              <a:buSzPct val="5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Franklin Gothic Book"/>
              </a:rPr>
              <a:t>5 Growth D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689880" y="6566040"/>
            <a:ext cx="245412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3300"/>
                            </p:stCondLst>
                            <p:childTnLst>
                              <p:par>
                                <p:cTn id="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Part II – Building the Future – </a:t>
            </a: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Network &amp;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333000"/>
            <a:ext cx="86756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0c81"/>
                </a:solidFill>
                <a:latin typeface="Franklin Gothic Book"/>
              </a:rPr>
              <a:t>F J Benjamin off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689880" y="6566040"/>
            <a:ext cx="2454120" cy="291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5256360" cy="53337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51640" y="1125360"/>
            <a:ext cx="3241440" cy="57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ranklin Gothic Book"/>
              </a:rPr>
              <a:t>Each Territory runs independ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Marketing &amp;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Distribution Cen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ranklin Gothic Book"/>
              </a:rPr>
              <a:t>Three separate 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Fash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Timepie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Creative &amp; Licen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Part II – Building the Future – </a:t>
            </a: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Network &amp;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22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780000" y="1125360"/>
          <a:ext cx="5184720" cy="4975200"/>
        </p:xfrm>
        <a:graphic>
          <a:graphicData uri="http://schemas.openxmlformats.org/drawingml/2006/table">
            <a:tbl>
              <a:tblPr/>
              <a:tblGrid>
                <a:gridCol w="1512720"/>
                <a:gridCol w="367200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Timepiece Distribu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90c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Rights / Territo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90c81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</a:rPr>
                        <a:t>Bell &amp; Ro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</a:rPr>
                        <a:t>S/M/I, Indochina, Thailand, Philippines, Brunei, Hong Kong, Macau, Taiwa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</a:rPr>
                        <a:t>Girard-Perregau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</a:rPr>
                        <a:t>S/M/I, Indochina, Thailand, Philippines, Brunei, China, Hong Kong, Macau, Taiwa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</a:rPr>
                        <a:t>Guess? Watch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</a:rPr>
                        <a:t>S/M/I, Indochina, Brunei, Hong Kong, Taiwan, Korea Duty Fre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</a:rPr>
                        <a:t>JeanRichar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</a:rPr>
                        <a:t>S/M/I, Indochina, Thailand, Philippines, Brunei, China, Hong Kong, Macau, Taiwa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</a:rPr>
                        <a:t>Marc Eck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</a:rPr>
                        <a:t>S/M/I, Indochina, Brunei, Hong Kong, Taiwan, Korea Duty Fre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</a:rPr>
                        <a:t>Naut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</a:rPr>
                        <a:t>S/M/I, Indochina, Brunei, Hong Kong, Taiwan, Korea Duty Fre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</a:rPr>
                        <a:t>Nike Tim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</a:rPr>
                        <a:t>S/M/I, Indochina, Brunei, Hong Kong, Taiwa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</a:rPr>
                        <a:t>Victorinox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</a:rPr>
                        <a:t>Swiss Arm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</a:rPr>
                        <a:t>S/M/I, Indochina, Brune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68360" y="692280"/>
          <a:ext cx="3095640" cy="5849640"/>
        </p:xfrm>
        <a:graphic>
          <a:graphicData uri="http://schemas.openxmlformats.org/drawingml/2006/table">
            <a:tbl>
              <a:tblPr/>
              <a:tblGrid>
                <a:gridCol w="1187280"/>
                <a:gridCol w="1044720"/>
                <a:gridCol w="86364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Franklin Gothic Book"/>
                          <a:ea typeface="Times New Roman"/>
                        </a:rPr>
                        <a:t>Retai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90c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Franklin Gothic Book"/>
                          <a:ea typeface="Times New Roman"/>
                        </a:rPr>
                        <a:t>Wher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90c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Franklin Gothic Book"/>
                          <a:ea typeface="Times New Roman"/>
                        </a:rPr>
                        <a:t>Numb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90c81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  <a:ea typeface="Times New Roman"/>
                        </a:rPr>
                        <a:t>Guess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  <a:ea typeface="Times New Roman"/>
                        </a:rPr>
                        <a:t>S/M/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</a:rPr>
                        <a:t>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  <a:ea typeface="Times New Roman"/>
                        </a:rPr>
                        <a:t>Baby Guess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  <a:ea typeface="Times New Roman"/>
                        </a:rPr>
                        <a:t>S/M/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</a:rPr>
                        <a:t>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  <a:ea typeface="Times New Roman"/>
                        </a:rPr>
                        <a:t>Guess? Accesso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  <a:ea typeface="Times New Roman"/>
                        </a:rPr>
                        <a:t>S/M/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  <a:ea typeface="Times New Roman"/>
                        </a:rPr>
                        <a:t>La Senz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  <a:ea typeface="Times New Roman"/>
                        </a:rPr>
                        <a:t>S/M/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  <a:ea typeface="Times New Roman"/>
                        </a:rPr>
                        <a:t>Austral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  <a:ea typeface="Times New Roman"/>
                        </a:rPr>
                        <a:t>Man Ut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  <a:ea typeface="Times New Roman"/>
                        </a:rPr>
                        <a:t>Singapo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  <a:ea typeface="Times New Roman"/>
                        </a:rPr>
                        <a:t>Paint 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  <a:ea typeface="Times New Roman"/>
                        </a:rPr>
                        <a:t>S/M/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  <a:ea typeface="Times New Roman"/>
                        </a:rPr>
                        <a:t>Rao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  <a:ea typeface="Times New Roman"/>
                        </a:rPr>
                        <a:t>S/M/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</a:rPr>
                        <a:t>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  <a:ea typeface="Times New Roman"/>
                        </a:rPr>
                        <a:t>Sherida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  <a:ea typeface="Times New Roman"/>
                        </a:rPr>
                        <a:t>Singapo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  <a:ea typeface="Times New Roman"/>
                        </a:rPr>
                        <a:t>Laliqu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  <a:ea typeface="Times New Roman"/>
                        </a:rPr>
                        <a:t>Singapo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  <a:ea typeface="Times New Roman"/>
                        </a:rPr>
                        <a:t>Ine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  <a:ea typeface="Times New Roman"/>
                        </a:rPr>
                        <a:t>Singapo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  <a:ea typeface="Times New Roman"/>
                        </a:rPr>
                        <a:t>WatchZo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  <a:ea typeface="Times New Roman"/>
                        </a:rPr>
                        <a:t>Malays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  <a:ea typeface="Times New Roman"/>
                        </a:rPr>
                        <a:t>Indones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  <a:ea typeface="Times New Roman"/>
                        </a:rPr>
                        <a:t>Hong Ko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08080"/>
                          </a:solidFill>
                          <a:latin typeface="Franklin Gothic Book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5867280" y="33336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0c81"/>
                </a:solidFill>
                <a:latin typeface="Franklin Gothic Book"/>
              </a:rPr>
              <a:t>    </a:t>
            </a:r>
            <a:r>
              <a:rPr b="0" lang="en-US" sz="2800" spc="-1" strike="noStrike">
                <a:solidFill>
                  <a:srgbClr val="090c81"/>
                </a:solidFill>
                <a:latin typeface="Franklin Gothic Book"/>
              </a:rPr>
              <a:t>regional pre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689880" y="6566040"/>
            <a:ext cx="245412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Part II – Building the Future – </a:t>
            </a: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Network &amp;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0c81"/>
                </a:solidFill>
                <a:latin typeface="Franklin Gothic Book"/>
              </a:rPr>
              <a:t>turnover - geograp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689880" y="6566040"/>
            <a:ext cx="2454120" cy="29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-1440" y="1341360"/>
          <a:ext cx="9145440" cy="4751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440" y="1341360"/>
                    <a:ext cx="9145440" cy="47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Growth YOY      </a:t>
            </a:r>
            <a:r>
              <a:rPr b="1" lang="en-US" sz="1800" spc="-1" strike="noStrike">
                <a:solidFill>
                  <a:srgbClr val="808080"/>
                </a:solidFill>
                <a:latin typeface="Franklin Gothic Book"/>
                <a:ea typeface="Arial"/>
              </a:rPr>
              <a:t>(6.7%)</a:t>
            </a:r>
            <a:r>
              <a:rPr b="1" lang="en-US" sz="1800" spc="-1" strike="noStrike">
                <a:solidFill>
                  <a:srgbClr val="808080"/>
                </a:solidFill>
                <a:latin typeface="Franklin Gothic Book"/>
                <a:ea typeface="Arial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Franklin Gothic Book"/>
                <a:ea typeface="Arial"/>
              </a:rPr>
              <a:t>        10.4%</a:t>
            </a:r>
            <a:r>
              <a:rPr b="1" lang="en-US" sz="1800" spc="-1" strike="noStrike">
                <a:solidFill>
                  <a:srgbClr val="808080"/>
                </a:solidFill>
                <a:latin typeface="Franklin Gothic Book"/>
                <a:ea typeface="Arial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Franklin Gothic Book"/>
                <a:ea typeface="Arial"/>
              </a:rPr>
              <a:t>       25.0%</a:t>
            </a:r>
            <a:r>
              <a:rPr b="1" lang="en-US" sz="1800" spc="-1" strike="noStrike">
                <a:solidFill>
                  <a:srgbClr val="808080"/>
                </a:solidFill>
                <a:latin typeface="Franklin Gothic Book"/>
                <a:ea typeface="Arial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Franklin Gothic Book"/>
                <a:ea typeface="Arial"/>
              </a:rPr>
              <a:t>        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689880" y="6566040"/>
            <a:ext cx="2454120" cy="29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250920" y="907920"/>
          <a:ext cx="8502480" cy="4557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907920"/>
                    <a:ext cx="8502480" cy="45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050920" y="2565360"/>
            <a:ext cx="803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105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2349360"/>
            <a:ext cx="8031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116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1989000"/>
            <a:ext cx="8031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145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236000" y="1916280"/>
            <a:ext cx="803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14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333360"/>
            <a:ext cx="8229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Part II – Building the Future – </a:t>
            </a: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Network &amp; Structure</a:t>
            </a:r>
            <a:br>
              <a:rPr sz="1800"/>
            </a:br>
            <a:br>
              <a:rPr sz="1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32200" y="333360"/>
            <a:ext cx="404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0c81"/>
                </a:solidFill>
                <a:latin typeface="Franklin Gothic Book"/>
              </a:rPr>
              <a:t>turnover - quar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684360" y="0"/>
          <a:ext cx="8208720" cy="511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0"/>
                    <a:ext cx="8208720" cy="51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689880" y="6566040"/>
            <a:ext cx="2454120" cy="291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411280" y="3357720"/>
            <a:ext cx="8035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1,5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24360" y="3141720"/>
            <a:ext cx="803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2,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35640" y="2060640"/>
            <a:ext cx="803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4,2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77080" y="981000"/>
            <a:ext cx="803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6,5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51640" y="4581360"/>
            <a:ext cx="93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Franklin Gothic Book"/>
              </a:rPr>
              <a:t>(9 mont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37372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c81"/>
                </a:solidFill>
                <a:latin typeface="Franklin Gothic Book"/>
              </a:rPr>
              <a:t>      </a:t>
            </a:r>
            <a:r>
              <a:rPr b="1" lang="en-US" sz="1800" spc="-1" strike="noStrike">
                <a:solidFill>
                  <a:srgbClr val="090c81"/>
                </a:solidFill>
                <a:latin typeface="Franklin Gothic Book"/>
              </a:rPr>
              <a:t>EPS (cents)</a:t>
            </a: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            0.53                  0.71                  1.5                     2.3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90c81"/>
                </a:solidFill>
                <a:latin typeface="Franklin Gothic Book"/>
                <a:ea typeface="Arial"/>
              </a:rPr>
              <a:t>      EBITDA growth YOY</a:t>
            </a:r>
            <a:r>
              <a:rPr b="1" lang="en-US" sz="1800" spc="-1" strike="noStrike">
                <a:solidFill>
                  <a:srgbClr val="808080"/>
                </a:solidFill>
                <a:latin typeface="Franklin Gothic Book"/>
                <a:ea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Franklin Gothic Book"/>
                <a:ea typeface="Arial"/>
              </a:rPr>
              <a:t>(62.8%)</a:t>
            </a: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               </a:t>
            </a:r>
            <a:r>
              <a:rPr b="1" lang="en-US" sz="1800" spc="-1" strike="noStrike">
                <a:solidFill>
                  <a:srgbClr val="808080"/>
                </a:solidFill>
                <a:latin typeface="Franklin Gothic Book"/>
                <a:ea typeface="Arial"/>
              </a:rPr>
              <a:t>19.5%</a:t>
            </a: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              </a:t>
            </a:r>
            <a:r>
              <a:rPr b="1" lang="en-US" sz="1800" spc="-1" strike="noStrike">
                <a:solidFill>
                  <a:srgbClr val="808080"/>
                </a:solidFill>
                <a:latin typeface="Franklin Gothic Book"/>
                <a:ea typeface="Arial"/>
              </a:rPr>
              <a:t>30.3%</a:t>
            </a: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              </a:t>
            </a:r>
            <a:r>
              <a:rPr b="1" lang="en-US" sz="1800" spc="-1" strike="noStrike">
                <a:solidFill>
                  <a:srgbClr val="808080"/>
                </a:solidFill>
                <a:latin typeface="Franklin Gothic Book"/>
                <a:ea typeface="Arial"/>
              </a:rPr>
              <a:t>79.7%</a:t>
            </a:r>
            <a:br>
              <a:rPr sz="1800"/>
            </a:br>
            <a:r>
              <a:rPr b="1" lang="en-US" sz="1800" spc="-1" strike="noStrike">
                <a:solidFill>
                  <a:srgbClr val="090c81"/>
                </a:solidFill>
                <a:latin typeface="Franklin Gothic Book"/>
                <a:ea typeface="Arial"/>
              </a:rPr>
              <a:t>      Dividend</a:t>
            </a:r>
            <a:r>
              <a:rPr b="1" lang="en-US" sz="1800" spc="-1" strike="noStrike">
                <a:solidFill>
                  <a:srgbClr val="808080"/>
                </a:solidFill>
                <a:latin typeface="Franklin Gothic Book"/>
                <a:ea typeface="Arial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Franklin Gothic Book"/>
                <a:ea typeface="Arial"/>
              </a:rPr>
              <a:t>            0.25                   0.75</a:t>
            </a: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                  </a:t>
            </a:r>
            <a:r>
              <a:rPr b="1" lang="en-US" sz="1800" spc="-1" strike="noStrike">
                <a:solidFill>
                  <a:srgbClr val="808080"/>
                </a:solidFill>
                <a:latin typeface="Franklin Gothic Book"/>
                <a:ea typeface="Arial"/>
              </a:rPr>
              <a:t>1.1</a:t>
            </a:r>
            <a:r>
              <a:rPr b="0" lang="en-US" sz="3600" spc="-1" strike="noStrike">
                <a:solidFill>
                  <a:srgbClr val="808080"/>
                </a:solidFill>
                <a:latin typeface="Franklin Gothic Book"/>
                <a:ea typeface="Arial"/>
              </a:rPr>
              <a:t>	</a:t>
            </a:r>
            <a:br>
              <a:rPr sz="3600"/>
            </a:br>
            <a:r>
              <a:rPr b="0" lang="en-US" sz="3600" spc="-1" strike="noStrike">
                <a:solidFill>
                  <a:srgbClr val="808080"/>
                </a:solidFill>
                <a:latin typeface="Franklin Gothic Book"/>
                <a:ea typeface="Arial"/>
              </a:rPr>
              <a:t> </a:t>
            </a:r>
            <a:r>
              <a:rPr b="0" lang="en-US" sz="3600" spc="-1" strike="noStrike">
                <a:solidFill>
                  <a:srgbClr val="808080"/>
                </a:solidFill>
                <a:latin typeface="Franklin Gothic Book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18900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Part II – Building the Future – </a:t>
            </a: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Network &amp; Structur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338400" y="6237360"/>
            <a:ext cx="48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Franklin Gothic Book"/>
              </a:rPr>
              <a:t> </a:t>
            </a:r>
            <a:r>
              <a:rPr b="1" lang="en-US" sz="1400" spc="-1" strike="noStrike">
                <a:solidFill>
                  <a:srgbClr val="808080"/>
                </a:solidFill>
                <a:latin typeface="Franklin Gothic Book"/>
              </a:rPr>
              <a:t>Amount per ordinary share (less tax) (cents)</a:t>
            </a: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87480" y="378000"/>
            <a:ext cx="32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0c81"/>
                </a:solidFill>
                <a:latin typeface="Franklin Gothic Book"/>
              </a:rPr>
              <a:t>PAT - quar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Part II – Building the Future – </a:t>
            </a: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Network &amp;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689880" y="6566040"/>
            <a:ext cx="2454120" cy="29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3898800"/>
                <a:gridCol w="1079640"/>
                <a:gridCol w="1081080"/>
                <a:gridCol w="1079640"/>
                <a:gridCol w="1090440"/>
              </a:tblGrid>
              <a:tr h="754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Franklin Gothic Book"/>
                          <a:ea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Franklin Gothic Book"/>
                          <a:ea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Franklin Gothic Book"/>
                          <a:ea typeface="Arial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Franklin Gothic Book"/>
                          <a:ea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EBITDA/interest cover (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.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4.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4.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8.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Current ratio (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.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.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.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.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Net Debt/Equity (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.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.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R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5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8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After-tax return on cap. employ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.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4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6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7720920" y="404640"/>
            <a:ext cx="18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anklin Gothic Book"/>
              </a:rPr>
              <a:t>rat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Part II – Building the Future – </a:t>
            </a: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5 Growth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000" y="62028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782"/>
                </a:solidFill>
                <a:latin typeface="Franklin Gothic Book"/>
              </a:rPr>
              <a:t>5 growth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5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ranklin Gothic Book"/>
              </a:rPr>
              <a:t>Organic Regional Grow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Guess?, Guess? Accessories, Guess? by Marci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La S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Timepi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5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ranklin Gothic Book"/>
              </a:rPr>
              <a:t>New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Banana Re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5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ranklin Gothic Book"/>
              </a:rPr>
              <a:t>New Business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Thai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Viet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5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ranklin Gothic Book"/>
              </a:rPr>
              <a:t>Creative &amp; Licen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Ra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5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ranklin Gothic Book"/>
              </a:rPr>
              <a:t>Strategic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St J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0"/>
          <a:stretch/>
        </p:blipFill>
        <p:spPr>
          <a:xfrm>
            <a:off x="6689880" y="6566040"/>
            <a:ext cx="245412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1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2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2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12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7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1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1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782"/>
                </a:solidFill>
                <a:latin typeface="Franklin Gothic Book"/>
              </a:rPr>
              <a:t>thank you for you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Book"/>
              </a:rPr>
              <a:t>www.</a:t>
            </a:r>
            <a:r>
              <a:rPr b="0" lang="en-US" sz="3200" spc="-1" strike="noStrike">
                <a:solidFill>
                  <a:srgbClr val="090c81"/>
                </a:solidFill>
                <a:latin typeface="Franklin Gothic Book"/>
              </a:rPr>
              <a:t>fjbenjamin</a:t>
            </a:r>
            <a:r>
              <a:rPr b="0" lang="en-US" sz="3200" spc="-1" strike="noStrike">
                <a:solidFill>
                  <a:srgbClr val="808080"/>
                </a:solidFill>
                <a:latin typeface="Franklin Gothic Book"/>
              </a:rPr>
              <a:t>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689880" y="6566040"/>
            <a:ext cx="2454120" cy="291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7200" y="0"/>
            <a:ext cx="8686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782"/>
                </a:solidFill>
                <a:latin typeface="Franklin Gothic Book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ranklin Gothic Book"/>
              </a:rPr>
              <a:t>Part I – Building B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Defining the Retail Landsc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DNA &amp;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ranklin Gothic Book"/>
              </a:rPr>
              <a:t>Part III – Inter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0" y="1628640"/>
            <a:ext cx="41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ranklin Gothic Book"/>
              </a:rPr>
              <a:t>Part II – Building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Network &amp;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5 Growth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6689880" y="6566040"/>
            <a:ext cx="2454120" cy="29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Part I – Building Brands - </a:t>
            </a: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Defining the Retail Landsc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000" y="549000"/>
            <a:ext cx="8147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782"/>
                </a:solidFill>
                <a:latin typeface="Franklin Gothic Book"/>
              </a:rPr>
              <a:t>the journey</a:t>
            </a: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1959 – F J Benjamin founded by Frank Benja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2006 – Frank hands over CEO position to younger brother, N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Book"/>
              </a:rPr>
              <a:t>	</a:t>
            </a:r>
            <a:r>
              <a:rPr b="0" lang="en-US" sz="2800" spc="-1" strike="noStrike">
                <a:solidFill>
                  <a:srgbClr val="808080"/>
                </a:solidFill>
                <a:latin typeface="Franklin Gothic Book"/>
              </a:rPr>
              <a:t>	</a:t>
            </a:r>
            <a:r>
              <a:rPr b="0" lang="en-US" sz="2800" spc="-1" strike="noStrike">
                <a:solidFill>
                  <a:srgbClr val="808080"/>
                </a:solidFill>
                <a:latin typeface="Franklin Gothic Book"/>
              </a:rPr>
              <a:t>	</a:t>
            </a:r>
            <a:r>
              <a:rPr b="0" lang="en-US" sz="2800" spc="-1" strike="noStrike">
                <a:solidFill>
                  <a:srgbClr val="808080"/>
                </a:solidFill>
                <a:latin typeface="Franklin Gothic Boo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89880" y="6566040"/>
            <a:ext cx="2454120" cy="29196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2050920" y="2708280"/>
            <a:ext cx="2449800" cy="3234960"/>
            <a:chOff x="2050920" y="2708280"/>
            <a:chExt cx="2449800" cy="3234960"/>
          </a:xfrm>
        </p:grpSpPr>
        <p:sp>
          <p:nvSpPr>
            <p:cNvPr id="53" name=""/>
            <p:cNvSpPr/>
            <p:nvPr/>
          </p:nvSpPr>
          <p:spPr>
            <a:xfrm>
              <a:off x="2050920" y="5157720"/>
              <a:ext cx="2449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Franklin Gothic Book"/>
                </a:rPr>
                <a:t>Frank Benja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Franklin Gothic Book"/>
                </a:rPr>
                <a:t>Executive Chairm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2411280" y="2708280"/>
              <a:ext cx="1698840" cy="230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"/>
          <p:cNvGrpSpPr/>
          <p:nvPr/>
        </p:nvGrpSpPr>
        <p:grpSpPr>
          <a:xfrm>
            <a:off x="4788000" y="2708280"/>
            <a:ext cx="2004840" cy="3234960"/>
            <a:chOff x="4788000" y="2708280"/>
            <a:chExt cx="2004840" cy="3234960"/>
          </a:xfrm>
        </p:grpSpPr>
        <p:sp>
          <p:nvSpPr>
            <p:cNvPr id="56" name=""/>
            <p:cNvSpPr/>
            <p:nvPr/>
          </p:nvSpPr>
          <p:spPr>
            <a:xfrm>
              <a:off x="4788000" y="5157720"/>
              <a:ext cx="20048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Franklin Gothic Book"/>
                </a:rPr>
                <a:t>Nash Benja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Franklin Gothic Book"/>
                </a:rPr>
                <a:t>Group CE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4932360" y="2708280"/>
              <a:ext cx="1743120" cy="230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0" y="2637000"/>
            <a:ext cx="4427640" cy="3698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Part I – Building Brands - </a:t>
            </a: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Defining the Retail Landsc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549000"/>
            <a:ext cx="8147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782"/>
                </a:solidFill>
                <a:latin typeface="Franklin Gothic Book"/>
              </a:rPr>
              <a:t>the journey</a:t>
            </a: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1975 – Launched Lanvin (first single-brand store in Singap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689880" y="6566040"/>
            <a:ext cx="2454120" cy="291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4103640" cy="3319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697040" y="5950080"/>
            <a:ext cx="291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1978 – Launched Guc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Part I – Building Brands - </a:t>
            </a: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Defining the Retail Landsc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620280"/>
            <a:ext cx="814716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782"/>
                </a:solidFill>
                <a:latin typeface="Franklin Gothic Book"/>
              </a:rPr>
              <a:t>the journey</a:t>
            </a: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ranklin Gothic Book"/>
              </a:rPr>
              <a:t>F J Benjamin has represented some of the world’s best known and most loved labels over the last 47 yea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Amco J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Bill B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C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Emmanuel Unga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Fen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Gott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Guc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Hunting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Isaac Mizra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Franklin Gothic Book"/>
              </a:rPr>
              <a:t>	</a:t>
            </a:r>
            <a:r>
              <a:rPr b="0" lang="en-US" sz="1600" spc="-1" strike="noStrike">
                <a:solidFill>
                  <a:srgbClr val="808080"/>
                </a:solidFill>
                <a:latin typeface="Franklin Gothic Book"/>
              </a:rPr>
              <a:t>	</a:t>
            </a:r>
            <a:r>
              <a:rPr b="0" lang="en-US" sz="1600" spc="-1" strike="noStrike">
                <a:solidFill>
                  <a:srgbClr val="808080"/>
                </a:solidFill>
                <a:latin typeface="Franklin Gothic Book"/>
              </a:rPr>
              <a:t>	</a:t>
            </a:r>
            <a:r>
              <a:rPr b="0" lang="en-US" sz="1600" spc="-1" strike="noStrike">
                <a:solidFill>
                  <a:srgbClr val="80808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6689880" y="6566040"/>
            <a:ext cx="2454120" cy="2919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40360" y="2276640"/>
            <a:ext cx="4038480" cy="22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lvl="1" marL="512640" indent="-196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Jae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La Per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Lanv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Mosch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Sam &amp; Lib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Valent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Yves Saint Lau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Zoo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500"/>
                            </p:stCondLst>
                            <p:childTnLst>
                              <p:par>
                                <p:cTn id="1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5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500"/>
                            </p:stCondLst>
                            <p:childTnLst>
                              <p:par>
                                <p:cTn id="2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500"/>
                            </p:stCondLst>
                            <p:childTnLst>
                              <p:par>
                                <p:cTn id="2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7500"/>
                            </p:stCondLst>
                            <p:childTnLst>
                              <p:par>
                                <p:cTn id="2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8000"/>
                            </p:stCondLst>
                            <p:childTnLst>
                              <p:par>
                                <p:cTn id="2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Part I – Building Brands - </a:t>
            </a: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Defining the Retail Landsc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000" y="620280"/>
            <a:ext cx="8147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782"/>
                </a:solidFill>
                <a:latin typeface="Franklin Gothic Book"/>
              </a:rPr>
              <a:t>F J Benjamin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ranklin Gothic Book"/>
              </a:rPr>
              <a:t>SGX listed since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FY 04/05 revenue/Oper EBITDA</a:t>
            </a: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S$146m / S$6.9m (full ye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FY 05/06 revenue/ Oper EBITDA</a:t>
            </a: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S$144m / S$12.4m (9 month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ranklin Gothic Book"/>
              </a:rPr>
              <a:t>120 stores and shop-in-shops from North Asia to Austral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ranklin Gothic Book"/>
              </a:rPr>
              <a:t>Employs over 1,500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ranklin Gothic Book"/>
              </a:rPr>
              <a:t>Represents a portfolio of key b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ranklin Gothic Book"/>
              </a:rPr>
              <a:t>Strong reputation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brand 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influencing consumer fashion trends in South East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attracting iconic brands to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6689880" y="6566040"/>
            <a:ext cx="245412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Part I – Building Brands - </a:t>
            </a: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Defining the Retail Landsc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549000"/>
            <a:ext cx="8675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782"/>
                </a:solidFill>
                <a:latin typeface="Franklin Gothic Book"/>
              </a:rPr>
              <a:t>	</a:t>
            </a:r>
            <a:r>
              <a:rPr b="0" lang="en-US" sz="2800" spc="-1" strike="noStrike">
                <a:solidFill>
                  <a:srgbClr val="081782"/>
                </a:solidFill>
                <a:latin typeface="Franklin Gothic Book"/>
              </a:rPr>
              <a:t>	</a:t>
            </a:r>
            <a:r>
              <a:rPr b="0" lang="en-US" sz="2800" spc="-1" strike="noStrike">
                <a:solidFill>
                  <a:srgbClr val="081782"/>
                </a:solidFill>
                <a:latin typeface="Franklin Gothic Book"/>
              </a:rPr>
              <a:t>	</a:t>
            </a:r>
            <a:r>
              <a:rPr b="0" lang="en-US" sz="2800" spc="-1" strike="noStrike">
                <a:solidFill>
                  <a:srgbClr val="081782"/>
                </a:solidFill>
                <a:latin typeface="Franklin Gothic Book"/>
              </a:rPr>
              <a:t>	</a:t>
            </a:r>
            <a:r>
              <a:rPr b="0" lang="en-US" sz="2800" spc="-1" strike="noStrike">
                <a:solidFill>
                  <a:srgbClr val="081782"/>
                </a:solidFill>
                <a:latin typeface="Franklin Gothic Book"/>
              </a:rPr>
              <a:t>	</a:t>
            </a:r>
            <a:r>
              <a:rPr b="0" lang="en-US" sz="2800" spc="-1" strike="noStrike">
                <a:solidFill>
                  <a:srgbClr val="081782"/>
                </a:solidFill>
                <a:latin typeface="Franklin Gothic Book"/>
              </a:rPr>
              <a:t>	</a:t>
            </a:r>
            <a:r>
              <a:rPr b="0" lang="en-US" sz="2800" spc="-1" strike="noStrike">
                <a:solidFill>
                  <a:srgbClr val="081782"/>
                </a:solidFill>
                <a:latin typeface="Franklin Gothic Book"/>
              </a:rPr>
              <a:t>      </a:t>
            </a:r>
            <a:r>
              <a:rPr b="0" lang="en-US" sz="2800" spc="-1" strike="noStrike">
                <a:solidFill>
                  <a:srgbClr val="081782"/>
                </a:solidFill>
                <a:latin typeface="Franklin Gothic Book"/>
              </a:rPr>
              <a:t>F J Benjamin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Book"/>
              </a:rPr>
              <a:t>Core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ranklin Gothic Book"/>
              </a:rPr>
              <a:t>Fashion Retail &amp;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ranklin Gothic Book"/>
              </a:rPr>
              <a:t>Timepiece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ranklin Gothic Book"/>
              </a:rPr>
              <a:t>Creative &amp; Licen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Book"/>
              </a:rPr>
              <a:t>Strategic collaborations with key partners – lifestyle entertainment, F&amp;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6689880" y="6566040"/>
            <a:ext cx="245412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ranklin Gothic Book"/>
              </a:rPr>
              <a:t>Retail is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Location, Location,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Staff – Training and Re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Merchand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Keep it small, foc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ranklin Gothic Book"/>
              </a:rPr>
              <a:t>Integ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Princip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Business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360684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ranklin Gothic Book"/>
              </a:rPr>
              <a:t>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Global fashion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Fulfilling lifestyle aspi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Talent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Sustainable and superior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ranklin Gothic Book"/>
              </a:rPr>
              <a:t>Pa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Do what you l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Love what you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5"/>
          <a:stretch/>
        </p:blipFill>
        <p:spPr>
          <a:xfrm>
            <a:off x="6689880" y="6566040"/>
            <a:ext cx="2454120" cy="291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" y="0"/>
            <a:ext cx="86868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Part I – Building Brands – </a:t>
            </a: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DNA &amp; Vision</a:t>
            </a:r>
            <a:br>
              <a:rPr sz="2400"/>
            </a:b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6"/>
          <a:stretch/>
        </p:blipFill>
        <p:spPr>
          <a:xfrm>
            <a:off x="4654440" y="5300640"/>
            <a:ext cx="3662640" cy="6429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00480" y="450720"/>
            <a:ext cx="362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782"/>
                </a:solidFill>
                <a:latin typeface="Franklin Gothic Book"/>
              </a:rPr>
              <a:t>its all in the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4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Part I – Building Brands – </a:t>
            </a:r>
            <a:r>
              <a:rPr b="0" lang="en-US" sz="1800" spc="-1" strike="noStrike">
                <a:solidFill>
                  <a:srgbClr val="808080"/>
                </a:solidFill>
                <a:latin typeface="Franklin Gothic Book"/>
              </a:rPr>
              <a:t>DNA &amp;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000" y="62028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782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081782"/>
                </a:solidFill>
                <a:latin typeface="Franklin Gothic Book"/>
              </a:rPr>
              <a:t>how we run our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5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ranklin Gothic Book"/>
              </a:rPr>
              <a:t>Nimble, 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efficiencies and productivity key in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5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ranklin Gothic Book"/>
              </a:rPr>
              <a:t>No low volume, large area st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optimal store density/traffic planning, conservative stock 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5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ranklin Gothic Book"/>
              </a:rPr>
              <a:t>Not reliant on one major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brand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5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ranklin Gothic Book"/>
              </a:rPr>
              <a:t>Develop and own house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react faster / margin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5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ranklin Gothic Book"/>
              </a:rPr>
              <a:t>Cost Review Committee in Singap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Franklin Gothic Book"/>
              </a:rPr>
              <a:t>monthly oversight of regional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6689880" y="6566040"/>
            <a:ext cx="245412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2:23:22Z</dcterms:created>
  <dc:creator>Ben J. Benjamin</dc:creator>
  <dc:description/>
  <dc:language>en-US</dc:language>
  <cp:lastModifiedBy>thalia</cp:lastModifiedBy>
  <dcterms:modified xsi:type="dcterms:W3CDTF">2006-08-28T09:24:54Z</dcterms:modified>
  <cp:revision>84</cp:revision>
  <dc:subject/>
  <dc:title>Slide 1</dc:title>
</cp:coreProperties>
</file>